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B500-50C1-4055-B844-7FD8CEFB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6528-6E85-40AF-B433-543F286B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94BA-B576-46CF-B192-F87B999C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7770-40E7-47C7-9FE7-65B2E4F3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3A30-1779-4F03-B35F-354ED3A2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A897-9F1E-4186-BFD2-E7C1D852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CDBF-EB6E-4ECA-83B9-E4282003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E656-B102-4FE1-B845-CBAC0E5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00A4-7190-43DC-A3C4-082FBA5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BC8D-DEA2-4EAF-8318-B647385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8BE9-FF10-49EF-92C1-5EAE5C3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757F-5964-45C0-8D72-CCA551DF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421-8BF1-4F2A-8D2A-0E2EA2B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28C-056F-4E38-BE81-540292E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A04E-0F3E-45CE-A87A-4851EB7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09BD-B9C0-4741-8075-0928ADAF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5A3C-BA69-4B9D-B1C0-2EB16CEB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31E6-5DF9-4C73-8A00-2BAA5303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612E-9C8F-4A35-8922-5E613C40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67A1-EFFE-4682-BE2E-6D95C4C8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F5AC-7646-44A8-8ABE-C1E493CF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EDEB-65FF-40A8-BCC6-CF960E67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AC11-E972-4706-BF53-1D65A04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D42D-3EBE-4B14-9D1B-58902EE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C46-3A73-4DFC-99BA-10EF91BF48E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C680-72E6-472B-A6F6-9CCE81E5AC2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916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70 (67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ще малко скръб и сълз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ще малко труд и гриж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през земний твой живот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тана щом изкуш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 теб сила не оста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повай ти в своя Бо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От небето дойде за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трада на кръст наш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рад наш'те грехов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то Бога в всичко след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със Него ще обяд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райските плодов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пред нас е светлий обла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избраний народ, той пак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с ще води в правий пъ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бодрете се вий, слаб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гови любезни раб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коро ще сме в райски къ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24T09:03:53Z</dcterms:modified>
  <cp:revision>102</cp:revision>
  <dc:subject/>
  <dc:title>Slide 1</dc:title>
</cp:coreProperties>
</file>